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DC563-D42D-438A-8DA0-A74BDC043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99C2-FAD7-40E5-A432-27047D57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59D95-8845-4E82-874F-542214C3E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4A297-E981-4399-9294-5ED5B6DE9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D4E9D-85C1-4929-9C12-74D2F5481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D0D2D-7583-4B51-B2A3-F4FABD4A9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09241-0CBA-4888-86AD-934D71FBE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204A7-14AE-4392-ABA1-3C48BEDDD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C9242-5921-4312-9300-05050EB44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6FE4A-C829-4020-8EA3-8504B2C5B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19F72-E02E-4CE8-A142-C37D76D2B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8EDD-1AAA-45C1-A26A-BC619EA8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CEA2E-E0FD-4064-98A5-CAB2BE854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9951C-8100-47DA-9C52-FEFFBBCE9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38630-6319-4948-88BC-AB6B7CCCB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2982F-9103-4247-8B09-62BEB081F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04E7D-5129-476F-974C-1EF2807F7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9BE6-E664-4F5E-B738-CD2FDCEB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CB07D-7666-4806-A8F4-561C65FC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2F5A-E650-4082-B2AF-56E31C90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4E2B-8265-42E3-BB75-4D604E34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CA8D-A64C-4723-9E6A-4DED34B4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4DD6-D999-42D0-9BBB-EAEC8494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900E-EE8D-43A4-BFBF-F5EDEE6B4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3F00-A4EE-4AF8-8499-893E43D0BD6A}"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9869-D11F-4B9F-AC28-89DCE1939E5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53DF-A155-44C5-B96F-1DDE46EF9C3E}"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7B75-4F15-43D7-A1EA-B656A366AF1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DA3D-A95C-41EC-AFBB-4D5A9ADFBE1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8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A075-B9B8-419A-B249-C8BE1603402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66"/>
                </a:solidFill>
                <a:latin typeface="Arial"/>
              </a:rPr>
              <a:t>Convenio Colectivo de Trabajo SUTERH N° 589/10</a:t>
            </a:r>
            <a:endParaRPr b="0" lang="en-US" sz="4000" spc="-1" strike="noStrike">
              <a:solidFill>
                <a:srgbClr val="ffcc66"/>
              </a:solidFill>
              <a:latin typeface="Arial"/>
            </a:endParaRPr>
          </a:p>
        </p:txBody>
      </p:sp>
      <p:sp>
        <p:nvSpPr>
          <p:cNvPr id="92"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2a. Jornada Consorcios 11/8/201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Dr. Leopoldo Gurovi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1 Bonificación por antigüedad</a:t>
            </a:r>
            <a:endParaRPr b="0" lang="en-US" sz="4400" spc="-1" strike="noStrike">
              <a:solidFill>
                <a:srgbClr val="ffcc66"/>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Se considerará tiempo de servicio efectivamente trabajado desde el comienzo de la vinculación el que corresponda a los sucesivos contratos entre las mismas partes y el tiempo de servicio anterior, cuando el trabajador cesado en el trabajo por cualquier causa, reingrese a las órdenes del mismo empleador.</a:t>
            </a:r>
            <a:endParaRPr b="0" lang="en-US" sz="3200" spc="-1" strike="noStrike">
              <a:solidFill>
                <a:srgbClr val="ffffff"/>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7A09-4101-459A-91E1-CFBEC4CC6DC8}"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3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3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7285-F334-4312-8592-655A345426C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1 Bonificación por antigüedad</a:t>
            </a:r>
            <a:endParaRPr b="0" lang="en-US" sz="4400" spc="-1" strike="noStrike">
              <a:solidFill>
                <a:srgbClr val="ffcc66"/>
              </a:solidFill>
              <a:latin typeface="Arial"/>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A partir del 1° de mayo de 2009, la bonificación por antigüedad para los trabajadores de las categorías de media jornada, suplente y jornalizados (incisos d, e, h, n y p del artículo 7° y artículo 8°) será del 1% del sueldo básico de los ayudantes permanentes sin vivienda de cuarta categoría.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F54E-F283-438E-8D66-2D0937C92733}"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4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4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9094-9E24-4CE3-9AF8-C2000C47AAE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1 Bonificación por antigüedad</a:t>
            </a:r>
            <a:endParaRPr b="0" lang="en-US" sz="4400" spc="-1" strike="noStrike">
              <a:solidFill>
                <a:srgbClr val="ffcc66"/>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Este nuevo porcentual regirá para los trabajadores que ingresen a partir de la homologación del presente acuerdo.</a:t>
            </a:r>
            <a:endParaRPr b="0" lang="en-US" sz="3200" spc="-1" strike="noStrike">
              <a:solidFill>
                <a:srgbClr val="ffffff"/>
              </a:solidFill>
              <a:latin typeface="Times New Roman"/>
            </a:endParaRPr>
          </a:p>
        </p:txBody>
      </p:sp>
      <p:sp>
        <p:nvSpPr>
          <p:cNvPr id="14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B888-C139-43B2-948F-6F1A6B91AAFE}"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4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4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4467-D594-4F04-8719-D9DC6DDE155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2 Licencias Especiales</a:t>
            </a:r>
            <a:endParaRPr b="0" lang="en-US" sz="4400" spc="-1" strike="noStrike">
              <a:solidFill>
                <a:srgbClr val="ffcc66"/>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0" lang="es-ES" sz="3200" spc="-1" strike="noStrike">
                <a:solidFill>
                  <a:srgbClr val="ffffff"/>
                </a:solidFill>
                <a:latin typeface="Times New Roman"/>
              </a:rPr>
              <a:t>Por enfermedad de hijo: diez (10) días para las trabajadoras activas, una vez al año, para el cuidadoso de hijos menores de 12 años. A los fines de hacer uso de la presente deberá presentar certificado médico que acredite la enfermedad.</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2B49-D140-45CE-8960-C3A56D82B7D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5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7062-CDE9-4EE5-AC02-D8D3457D2AA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2 Licencias Especiales</a:t>
            </a:r>
            <a:endParaRPr b="0" lang="en-US" sz="4400" spc="-1" strike="noStrike">
              <a:solidFill>
                <a:srgbClr val="ffcc66"/>
              </a:solidFill>
              <a:latin typeface="Arial"/>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 </a:t>
            </a:r>
            <a:r>
              <a:rPr b="0" lang="es-ES" sz="3200" spc="-1" strike="noStrike">
                <a:solidFill>
                  <a:srgbClr val="ffffff"/>
                </a:solidFill>
                <a:latin typeface="Times New Roman"/>
              </a:rPr>
              <a:t>El empleador otorgará un permiso diario de dos horas a la madre cuyo hijo recién nacido deba permanecer hospitalizado, hasta que el mismo sea dado de alta y durante un máximo de 3 me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E005-C632-470F-9FCE-BCBCD1540C6D}"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5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5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0899-635C-43E5-B095-462E668093D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2 Licencias Especiales</a:t>
            </a:r>
            <a:endParaRPr b="0" lang="en-US" sz="4400" spc="-1" strike="noStrike">
              <a:solidFill>
                <a:srgbClr val="ffcc66"/>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El empleador otorgará hasta cinco (5) permisos especiales por año calendario y sin descuento de haberes a los trabajadores que fueren convocados por la FATERYH para participar en eventos de capacitación, culturales o sociales</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39F9-8C9F-4922-9D6D-BFE5EF9EA090}"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6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6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4008-F0F2-4A7D-9B5B-F8C2BAC8C85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2 Licencias Especiales</a:t>
            </a:r>
            <a:endParaRPr b="0" lang="en-US" sz="4400" spc="-1" strike="noStrike">
              <a:solidFill>
                <a:srgbClr val="ffcc66"/>
              </a:solidFill>
              <a:latin typeface="Arial"/>
            </a:endParaRPr>
          </a:p>
        </p:txBody>
      </p:sp>
      <p:sp>
        <p:nvSpPr>
          <p:cNvPr id="1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Los trabajadores permanentes con horarios corridos tendrán 20 minutos diarios en concepto de refrigerio, tiempo en el cual el trabajador se encuentra liberado de prestar servicios. Queda facultado el empleador a establecer, en base a la mejor operatoria laboral, el horario en que el trabajador hará uso del presente beneficio.</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AD58-C72D-4AE0-99C3-154D4C64367B}"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6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6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2868-8F05-4441-BF39-DA9A4895B26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5 Remuneraciones</a:t>
            </a:r>
            <a:endParaRPr b="0" lang="en-US" sz="4400" spc="-1" strike="noStrike">
              <a:solidFill>
                <a:srgbClr val="ffcc66"/>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Las escalas salariales dejan de estar en el cuerpo del convenio y forman parte del Anexo I al mismo.</a:t>
            </a:r>
            <a:endParaRPr b="0" lang="en-US" sz="3200" spc="-1" strike="noStrike">
              <a:solidFill>
                <a:srgbClr val="ffffff"/>
              </a:solidFill>
              <a:latin typeface="Times New Roman"/>
            </a:endParaRPr>
          </a:p>
        </p:txBody>
      </p:sp>
      <p:sp>
        <p:nvSpPr>
          <p:cNvPr id="17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EC32-B5DD-4B55-9E2C-019BCB6ED2E0}"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7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7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CCD1-2328-4C9B-B374-A73285C8A5E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5 Valor Vivienda</a:t>
            </a:r>
            <a:endParaRPr b="0" lang="en-US" sz="4400" spc="-1" strike="noStrike">
              <a:solidFill>
                <a:srgbClr val="ffcc66"/>
              </a:solidFill>
              <a:latin typeface="Arial"/>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Se establece que el valor de la vivienda para los trabajadores que gozaren de la misma, surge de las diferentes escalas salariales vigentes, computándose dicho valor a efectos de aportes jubilatorios, aguinaldo, indemnización y/o  despidos, vacaciones y Obra Social Ley  N° 23.660.</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2868-8E08-40B9-AA4B-D25D0EF4941C}"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7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7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46B6-06EA-4944-93B7-DB917821102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5 Otras Obligaciones del Empleador </a:t>
            </a:r>
            <a:endParaRPr b="0" lang="en-US" sz="4400" spc="-1" strike="noStrike">
              <a:solidFill>
                <a:srgbClr val="ffcc66"/>
              </a:solidFill>
              <a:latin typeface="Arial"/>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En los casos de despido sin invocación de justa causa, el empleador no podrá exigir al trabajador la entrega de la unidad inmueble que este habitare, hasta tanto se le abone la totalidad de los rubros salariales e indemnizatorios que se correspondan percibir. </a:t>
            </a:r>
            <a:endParaRPr b="0" lang="en-US" sz="3200" spc="-1" strike="noStrike">
              <a:solidFill>
                <a:srgbClr val="ffffff"/>
              </a:solidFill>
              <a:latin typeface="Times New Roman"/>
            </a:endParaRPr>
          </a:p>
        </p:txBody>
      </p:sp>
      <p:sp>
        <p:nvSpPr>
          <p:cNvPr id="18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66BE-43F9-4862-87BB-5228C00A41E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8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8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0D31-8ED5-41F3-8680-49820B024DD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072E-B636-4300-BBB2-951F9C11F408}"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9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E618-B4CC-427C-82BE-C3293238D43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Incremento Salarial</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Mayo: 9%</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Julio: 9%</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Agosto: 9,5%</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Total:   27,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5 Otras Obligaciones del Empleador </a:t>
            </a:r>
            <a:endParaRPr b="0" lang="en-US" sz="4400" spc="-1" strike="noStrike">
              <a:solidFill>
                <a:srgbClr val="ffcc66"/>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El derecho a permanecer en la vivienda no se extenderá más allá de los 90 días, contados a partir del despido. Cuando el trabajador fallece, los beneficiarios del trabajador enumerados en el artículo 248 de la Ley 20744, podrán permanecer en la vivienda hasta un máximo de 30 días.</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347E-BCCE-474A-864B-48AFCEB15DF5}"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8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8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3AC6-D675-45C4-A7E0-2F930922973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Art. 26 Agente de Retención</a:t>
            </a:r>
            <a:br>
              <a:rPr sz="4400"/>
            </a:br>
            <a:endParaRPr b="0" lang="en-US" sz="4400" spc="-1" strike="noStrike">
              <a:solidFill>
                <a:srgbClr val="ffcc66"/>
              </a:solidFill>
              <a:latin typeface="Arial"/>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Los importes correspondientes a la cuota sindical de los tajadores comprendidos en el ámbito de aplicación del presente convenio colectivo de trabajo con arreglo a lo establecido en la ley 23.551.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0FD3-30CC-4164-8CA2-600BB3A2EE75}"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9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DBBE-6EC4-44B2-90FC-93441D9D6B3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cta Acuerdo del 23/5/05</a:t>
            </a:r>
            <a:endParaRPr b="0" lang="en-US" sz="4400" spc="-1" strike="noStrike">
              <a:solidFill>
                <a:srgbClr val="ffcc66"/>
              </a:solidFill>
              <a:latin typeface="Arial"/>
            </a:endParaRPr>
          </a:p>
        </p:txBody>
      </p:sp>
      <p:sp>
        <p:nvSpPr>
          <p:cNvPr id="1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	</a:t>
            </a:r>
            <a:r>
              <a:rPr b="0" lang="es-AR" sz="3200" spc="-1" strike="noStrike">
                <a:solidFill>
                  <a:srgbClr val="ffffff"/>
                </a:solidFill>
                <a:latin typeface="Times New Roman"/>
              </a:rPr>
              <a:t>f) Por otra parte y en virtud de que existen algunos administradores de los consorcios que no </a:t>
            </a:r>
            <a:r>
              <a:rPr b="0" lang="es-ES" sz="3200" spc="-1" strike="noStrike">
                <a:solidFill>
                  <a:srgbClr val="ffffff"/>
                </a:solidFill>
                <a:latin typeface="Times New Roman"/>
              </a:rPr>
              <a:t>aceptan actuar como agentes de retención de la cuota sindical con arreglo a lo establecido por la ley 23.551. A fin de superar tal situación propone incorporar un nuevo inciso al artículo 26 del CCT 378/04, cuyo texto sería el siguiente:</a:t>
            </a:r>
            <a:endParaRPr b="0" lang="en-US" sz="3200" spc="-1" strike="noStrike">
              <a:solidFill>
                <a:srgbClr val="ffffff"/>
              </a:solidFill>
              <a:latin typeface="Times New Roman"/>
            </a:endParaRPr>
          </a:p>
        </p:txBody>
      </p:sp>
      <p:sp>
        <p:nvSpPr>
          <p:cNvPr id="19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DCFC-2B16-4E78-87DC-75A518F3320C}"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9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9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C0BA-E99A-4BA7-A931-61AF49FF3B0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cta Acuerdo del 23/5/05</a:t>
            </a:r>
            <a:endParaRPr b="0" lang="en-US" sz="4400" spc="-1" strike="noStrike">
              <a:solidFill>
                <a:srgbClr val="ffcc66"/>
              </a:solidFill>
              <a:latin typeface="Arial"/>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	</a:t>
            </a:r>
            <a:r>
              <a:rPr b="0" lang="es-AR" sz="3200" spc="-1" strike="noStrike">
                <a:solidFill>
                  <a:srgbClr val="ffffff"/>
                </a:solidFill>
                <a:latin typeface="Times New Roman"/>
              </a:rPr>
              <a:t>“</a:t>
            </a:r>
            <a:r>
              <a:rPr b="0" lang="es-AR" sz="3200" spc="-1" strike="noStrike">
                <a:solidFill>
                  <a:srgbClr val="ffffff"/>
                </a:solidFill>
                <a:latin typeface="Times New Roman"/>
              </a:rPr>
              <a:t>Los importes correspondientes a la cuota sindical de los trabajadores comprendidos en el ámbito de la aplicación del presente convenio colectivo de trabajo, con arreglo a lo establecido en la ley 23551”</a:t>
            </a:r>
            <a:endParaRPr b="0" lang="en-US" sz="3200" spc="-1" strike="noStrike">
              <a:solidFill>
                <a:srgbClr val="ffffff"/>
              </a:solidFill>
              <a:latin typeface="Times New Roman"/>
            </a:endParaRPr>
          </a:p>
        </p:txBody>
      </p:sp>
      <p:sp>
        <p:nvSpPr>
          <p:cNvPr id="20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B0BF-5740-46F8-A06C-A9DCB45D9816}"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0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1564-2978-42D2-B49D-B47B3059D97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Art. 26 Agente de Retención</a:t>
            </a:r>
            <a:endParaRPr b="0" lang="en-US" sz="4400" spc="-1" strike="noStrike">
              <a:solidFill>
                <a:srgbClr val="ffcc66"/>
              </a:solidFill>
              <a:latin typeface="Arial"/>
            </a:endParaRPr>
          </a:p>
        </p:txBody>
      </p:sp>
      <p:sp>
        <p:nvSpPr>
          <p:cNvPr id="2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Se deja expresamente establecido que los pagos que corresponden a la aplicación de los artículos 19, 27 y 29, deberán ser abonados mensualmente en las condiciones fijadas en el art.19.</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ABCB-BFC3-4F2E-8234-FD915A2110FA}"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0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B32B-426E-4108-AFB2-CCB0BE6702C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VI) Deberá brindarse pro la aseguradora asignada la indemnización por muerte del trabajador prevista en el artículo 248 de la LCT</a:t>
            </a:r>
            <a:endParaRPr b="0" lang="en-US" sz="3200" spc="-1" strike="noStrike">
              <a:solidFill>
                <a:srgbClr val="ffffff"/>
              </a:solidFill>
              <a:latin typeface="Times New Roman"/>
            </a:endParaRPr>
          </a:p>
        </p:txBody>
      </p:sp>
      <p:sp>
        <p:nvSpPr>
          <p:cNvPr id="21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0E4E-C2DF-454D-AB95-D3CAA5DC79F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1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1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6C85-48FB-4C36-B0A0-87C6BB9D928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VII) Deberá brindarse por la aseguradora asignada el pago de la licencia por maternidad para la madre adoptante de un menor y por un período de 60 días corridos contados a partir del otorgamiento de la guarda con fines de adopción</a:t>
            </a:r>
            <a:endParaRPr b="0" lang="en-US" sz="3200" spc="-1" strike="noStrike">
              <a:solidFill>
                <a:srgbClr val="ffffff"/>
              </a:solidFill>
              <a:latin typeface="Times New Roman"/>
            </a:endParaRPr>
          </a:p>
        </p:txBody>
      </p:sp>
      <p:sp>
        <p:nvSpPr>
          <p:cNvPr id="21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CEC5-5644-4CFC-8EEC-6744A88E6EC4}"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1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1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37A7-8547-434A-931A-9AA17C30E02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VIII) Deberá brindarse por la aseguradora asignada el pago de la licencia por paternidad en caso de parto múltiple de 10 días corridos.</a:t>
            </a:r>
            <a:endParaRPr b="0" lang="en-US" sz="3200" spc="-1" strike="noStrike">
              <a:solidFill>
                <a:srgbClr val="ffffff"/>
              </a:solidFill>
              <a:latin typeface="Times New Roman"/>
            </a:endParaRPr>
          </a:p>
        </p:txBody>
      </p:sp>
      <p:sp>
        <p:nvSpPr>
          <p:cNvPr id="22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6BD2-74A7-4DA0-AD4D-DAC6A78E014E}"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2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6B72-3F02-4C4F-AD30-35BE2084855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IX) Deberá brindarse por la aseguradora asignada el pago de la licencia por paternidad para el padre adoptante, de 3 días corridos</a:t>
            </a:r>
            <a:endParaRPr b="0" lang="en-US" sz="3200" spc="-1" strike="noStrike">
              <a:solidFill>
                <a:srgbClr val="ffffff"/>
              </a:solidFill>
              <a:latin typeface="Times New Roman"/>
            </a:endParaRPr>
          </a:p>
        </p:txBody>
      </p:sp>
      <p:sp>
        <p:nvSpPr>
          <p:cNvPr id="22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AFD-97FB-4CF8-AF40-C0D7F7B7E02F}"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2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2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81B6-D1B8-4722-A60B-49646E33962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X) Deberá brindarse por la aseguradora asignada el pago de la licencia de 30 días corridos para el padre del recién nacido cuando la madre fallece en el parto o inmediatamente después de él.</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8E15-8EAC-4193-9EC9-0863B0FD58EB}"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3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3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077C-3304-4BEF-B1CE-1FC95F0E88C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No remunerativo</a:t>
            </a:r>
            <a:endParaRPr b="0" lang="en-US" sz="4400" spc="-1" strike="noStrike">
              <a:solidFill>
                <a:srgbClr val="ffcc66"/>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 600,0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Enero 2011: $ 300,0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Febrero 2011: $ 300,00</a:t>
            </a:r>
            <a:endParaRPr b="0" lang="en-US" sz="3200" spc="-1" strike="noStrike">
              <a:solidFill>
                <a:srgbClr val="ffffff"/>
              </a:solidFill>
              <a:latin typeface="Times New Roman"/>
            </a:endParaRPr>
          </a:p>
        </p:txBody>
      </p:sp>
      <p:sp>
        <p:nvSpPr>
          <p:cNvPr id="10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0C83-262F-4D70-9F3E-6526D9E58274}"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4C0A-C683-4259-A888-297C4E0F038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	</a:t>
            </a:r>
            <a:r>
              <a:rPr b="0" lang="es-AR" sz="3200" spc="-1" strike="noStrike">
                <a:solidFill>
                  <a:srgbClr val="ffffff"/>
                </a:solidFill>
                <a:latin typeface="Times New Roman"/>
              </a:rPr>
              <a:t>los empleadores de la actividad efectuarán un aporte mensual del 2,5% (dos y medio por ciento) sobre la remuneración bruta total de cada trabajador y/o trabajadora comprendido en el ámbito de aplicación del presente convenio colectivo de trabajo, se encuentren afiliados o no a la entidad sindical de base nucleada en la FATERYH. </a:t>
            </a:r>
            <a:endParaRPr b="0" lang="en-US" sz="3200" spc="-1" strike="noStrike">
              <a:solidFill>
                <a:srgbClr val="ffffff"/>
              </a:solidFill>
              <a:latin typeface="Times New Roman"/>
            </a:endParaRPr>
          </a:p>
        </p:txBody>
      </p:sp>
      <p:sp>
        <p:nvSpPr>
          <p:cNvPr id="23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1E2C-0EEA-4406-B752-1F42C1C75F60}"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3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3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7D04-5DBD-4F3C-9062-0AF9897ADC6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7 FATERYH</a:t>
            </a:r>
            <a:endParaRPr b="0" lang="en-US" sz="4400" spc="-1" strike="noStrike">
              <a:solidFill>
                <a:srgbClr val="ffcc66"/>
              </a:solidFill>
              <a:latin typeface="Arial"/>
            </a:endParaRPr>
          </a:p>
        </p:txBody>
      </p:sp>
      <p:sp>
        <p:nvSpPr>
          <p:cNvPr id="23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2800" spc="-1" strike="noStrike">
                <a:solidFill>
                  <a:srgbClr val="ffffff"/>
                </a:solidFill>
                <a:latin typeface="Times New Roman"/>
              </a:rPr>
              <a:t>La FATERYH podrá destinar el eventual excedente resultante entre la suma recaudada y los premios total abonarse por las pólizas contratadas bajo el concepto de este artículo, para brindar prestaciones de naturaleza culturas, educativa y de capacitación y formación profesional, sociales en general o cualquier otra propia de su objeto asociacional, en beneficio de sus asociado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6ABA-99E9-4950-B0FB-A627DCC0254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4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4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5134-0F53-45B7-82A5-34AC0795913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9 Servicio de Conciliación</a:t>
            </a:r>
            <a:endParaRPr b="0" lang="en-US" sz="4400" spc="-1" strike="noStrike">
              <a:solidFill>
                <a:srgbClr val="ffcc66"/>
              </a:solidFill>
              <a:latin typeface="Arial"/>
            </a:endParaRPr>
          </a:p>
        </p:txBody>
      </p:sp>
      <p:sp>
        <p:nvSpPr>
          <p:cNvPr id="2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	</a:t>
            </a:r>
            <a:r>
              <a:rPr b="0" lang="es-AR" sz="3200" spc="-1" strike="noStrike">
                <a:solidFill>
                  <a:srgbClr val="ffffff"/>
                </a:solidFill>
                <a:latin typeface="Times New Roman"/>
              </a:rPr>
              <a:t>En virtud de lo acordado en fecha 16 de abril de 2009, los representantes de la parte sindical, FEDERACIÓN ARGENTIAN DE TRABJADORES DE EDIFICIOS DE RENTA Y HORIZONTAL, (FATERYH), los de la AOCACION INMOBILIARIA DE EDIFICIOS DE RENTA Y HORIZONTAL (AIERH), </a:t>
            </a:r>
            <a:endParaRPr b="0" lang="en-US" sz="3200" spc="-1" strike="noStrike">
              <a:solidFill>
                <a:srgbClr val="ffffff"/>
              </a:solidFill>
              <a:latin typeface="Times New Roman"/>
            </a:endParaRPr>
          </a:p>
        </p:txBody>
      </p:sp>
      <p:sp>
        <p:nvSpPr>
          <p:cNvPr id="24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2B7A-E24C-45C6-B7A2-09E7F3B54E02}"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4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4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8A9B-8FE1-480C-9A56-C68A44E6C87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9 Servicio de Conciliación</a:t>
            </a:r>
            <a:endParaRPr b="0" lang="en-US" sz="4400" spc="-1" strike="noStrike">
              <a:solidFill>
                <a:srgbClr val="ffcc66"/>
              </a:solidFill>
              <a:latin typeface="Arial"/>
            </a:endParaRPr>
          </a:p>
        </p:txBody>
      </p:sp>
      <p:sp>
        <p:nvSpPr>
          <p:cNvPr id="24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	</a:t>
            </a:r>
            <a:r>
              <a:rPr b="0" lang="es-AR" sz="2800" spc="-1" strike="noStrike">
                <a:solidFill>
                  <a:srgbClr val="ffffff"/>
                </a:solidFill>
                <a:latin typeface="Times New Roman"/>
              </a:rPr>
              <a:t>los de la UNION DE ADMINISTRADORES DE INMUEBLES, (UADI) y los de la CAMARA ARGENTINA DE LA PROPIEDAD HORIZONTAL Y ACTIVIDADES INMOBILIARIARIAS (CAPHyAI), resuelven crear el SERVICIO de FACILITACIÓN OPTATIVA para TRABJADORES y EMPLEADORES de RENTA y HORIZONT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743D-9B3E-407D-AF7E-DD885726866E}"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5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D552-94A6-47B7-B67F-6AF6A04BEC8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29 Servicio de Conciliación</a:t>
            </a:r>
            <a:endParaRPr b="0" lang="en-US" sz="4400" spc="-1" strike="noStrike">
              <a:solidFill>
                <a:srgbClr val="ffcc66"/>
              </a:solidFill>
              <a:latin typeface="Arial"/>
            </a:endParaRPr>
          </a:p>
        </p:txBody>
      </p:sp>
      <p:sp>
        <p:nvSpPr>
          <p:cNvPr id="2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Costo de puesta en marcha:</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0,5%  el aporte empleador del art. 27.</a:t>
            </a:r>
            <a:endParaRPr b="0" lang="en-US" sz="3200" spc="-1" strike="noStrike">
              <a:solidFill>
                <a:srgbClr val="ffffff"/>
              </a:solidFill>
              <a:latin typeface="Times New Roman"/>
            </a:endParaRPr>
          </a:p>
        </p:txBody>
      </p:sp>
      <p:sp>
        <p:nvSpPr>
          <p:cNvPr id="25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3D72-CD2A-4173-9B25-7D5DE36035CB}"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25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25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F8AE-C9ED-4F67-91A0-68F250AA8BE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Encargado Permanente c/Vivienda 1ª Categoría</a:t>
            </a:r>
            <a:endParaRPr b="0" lang="en-US" sz="4400" spc="-1" strike="noStrike">
              <a:solidFill>
                <a:srgbClr val="ffcc66"/>
              </a:solidFill>
              <a:latin typeface="Arial"/>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Básico Abril/10 </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2.132,0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Básico Agosto/10</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2.719,0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Incremento: 27,5%</a:t>
            </a:r>
            <a:endParaRPr b="0" lang="en-US" sz="3200" spc="-1" strike="noStrike">
              <a:solidFill>
                <a:srgbClr val="ffffff"/>
              </a:solidFill>
              <a:latin typeface="Times New Roman"/>
            </a:endParaRPr>
          </a:p>
        </p:txBody>
      </p:sp>
      <p:sp>
        <p:nvSpPr>
          <p:cNvPr id="10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38A0-BD1D-4998-B4AB-9D3684ED7BA9}"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0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8FFD-0535-4597-901D-8AC83BD3296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Comparación con 2007</a:t>
            </a:r>
            <a:endParaRPr b="0" lang="en-US" sz="4400" spc="-1" strike="noStrike">
              <a:solidFill>
                <a:srgbClr val="ffcc66"/>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Agosto 2007</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1.273,00</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Agosto 2010</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	</a:t>
            </a:r>
            <a:r>
              <a:rPr b="0" lang="es-AR" sz="3200" spc="-1" strike="noStrike">
                <a:solidFill>
                  <a:srgbClr val="ffffff"/>
                </a:solidFill>
                <a:latin typeface="Times New Roman"/>
              </a:rPr>
              <a:t>2.719,00</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Incremento :   113%</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Incremento:    282%</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2004: 711/2719)</a:t>
            </a:r>
            <a:endParaRPr b="0" lang="en-US" sz="3200" spc="-1" strike="noStrike">
              <a:solidFill>
                <a:srgbClr val="ffffff"/>
              </a:solidFill>
              <a:latin typeface="Times New Roman"/>
            </a:endParaRPr>
          </a:p>
        </p:txBody>
      </p:sp>
      <p:sp>
        <p:nvSpPr>
          <p:cNvPr id="11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43A3-2B9C-442D-B704-B56BD4E738A8}"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1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6430-0A7E-42FB-97F7-545F93EB018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CCT SUTERH 589/10</a:t>
            </a:r>
            <a:endParaRPr b="0" lang="en-US" sz="4400" spc="-1" strike="noStrike">
              <a:solidFill>
                <a:srgbClr val="ffcc66"/>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Times New Roman"/>
              </a:rPr>
              <a:t>Convenio 378/04</a:t>
            </a:r>
            <a:endParaRPr b="0" lang="en-US" sz="32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Times New Roman"/>
              </a:rPr>
              <a:t>Resoluciones</a:t>
            </a:r>
            <a:r>
              <a:rPr b="0" lang="es-AR" sz="2800" spc="-1" strike="noStrike">
                <a:solidFill>
                  <a:srgbClr val="ffffff"/>
                </a:solidFill>
                <a:latin typeface="Times New Roman"/>
              </a:rPr>
              <a:t>:</a:t>
            </a:r>
            <a:endParaRPr b="0" lang="en-US" sz="28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156/05   6/6/05</a:t>
            </a:r>
            <a:endParaRPr b="0" lang="en-US" sz="28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  </a:t>
            </a:r>
            <a:r>
              <a:rPr b="0" lang="es-AR" sz="2800" spc="-1" strike="noStrike">
                <a:solidFill>
                  <a:srgbClr val="ffffff"/>
                </a:solidFill>
                <a:latin typeface="Times New Roman"/>
              </a:rPr>
              <a:t>30/06 20/4/06</a:t>
            </a:r>
            <a:endParaRPr b="0" lang="en-US" sz="28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426/07 31/5/07</a:t>
            </a:r>
            <a:endParaRPr b="0" lang="en-US" sz="28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339/08   3/4/08</a:t>
            </a:r>
            <a:endParaRPr b="0" lang="en-US" sz="2800" spc="-1" strike="noStrike">
              <a:solidFill>
                <a:srgbClr val="ffffff"/>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    </a:t>
            </a:r>
            <a:r>
              <a:rPr b="0" lang="es-AR" sz="2800" spc="-1" strike="noStrike">
                <a:solidFill>
                  <a:srgbClr val="ffffff"/>
                </a:solidFill>
                <a:latin typeface="Times New Roman"/>
              </a:rPr>
              <a:t>1/09  5/1/09</a:t>
            </a:r>
            <a:endParaRPr b="0" lang="en-US" sz="2800" spc="-1" strike="noStrike">
              <a:solidFill>
                <a:srgbClr val="ffffff"/>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imes New Roman"/>
              </a:rPr>
              <a:t>   </a:t>
            </a:r>
            <a:r>
              <a:rPr b="0" lang="es-AR" sz="2800" spc="-1" strike="noStrike">
                <a:solidFill>
                  <a:srgbClr val="ffffff"/>
                </a:solidFill>
                <a:latin typeface="Times New Roman"/>
              </a:rPr>
              <a:t>106/09 27/7/09</a:t>
            </a:r>
            <a:endParaRPr b="0" lang="en-US" sz="2800" spc="-1" strike="noStrike">
              <a:solidFill>
                <a:srgbClr val="ffffff"/>
              </a:solidFill>
              <a:latin typeface="Times New Roman"/>
            </a:endParaRPr>
          </a:p>
        </p:txBody>
      </p:sp>
      <p:sp>
        <p:nvSpPr>
          <p:cNvPr id="11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E4AD-8C34-4FC2-AE5A-4FF6A524F2E2}"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1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F33F-F8FA-4DE0-827D-9769BA49365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Párrafos incluidos</a:t>
            </a:r>
            <a:endParaRPr b="0" lang="en-US" sz="4400" spc="-1" strike="noStrike">
              <a:solidFill>
                <a:srgbClr val="ffcc66"/>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Títul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Art. 7 inc. p) al final:</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os trabajadores que realicen tareas de retiro de residuos los días domingos y feriados, quedan incluidos en esta categoría.</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D2BD-64D9-4A6C-BA7D-9E806B1EBE3B}"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2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8976-14F5-4C58-B953-EE631EF4DD0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0 Aportes Obra Social</a:t>
            </a:r>
            <a:endParaRPr b="0" lang="en-US" sz="4400" spc="-1" strike="noStrike">
              <a:solidFill>
                <a:srgbClr val="ffcc66"/>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0" lang="es-ES" sz="3200" spc="-1" strike="noStrike">
                <a:solidFill>
                  <a:srgbClr val="ffffff"/>
                </a:solidFill>
                <a:latin typeface="Times New Roman"/>
              </a:rPr>
              <a:t>Los aportes y contribuciones a la obra social se calcularán conforme el salario de jornada completa de la categoría en que se desempeña el trabajador.</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723B-91DD-4D0A-852B-46FF4F313595}"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2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02C8-9AF7-4197-89C0-F685DEB0C95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Art. 11 Bonificación por antigüedad</a:t>
            </a:r>
            <a:endParaRPr b="0" lang="en-US" sz="4400" spc="-1" strike="noStrike">
              <a:solidFill>
                <a:srgbClr val="ffcc66"/>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dependientemente de los sueldos básicos fijados en el artículo 15 de esta convención, para las diversas categorías y escalas salariales, los  trabajadores percibirán una bonificación por antigüedad por cada año de servicio equivalente al 2% del sueldo básico de un ayudante permanente sin vivienda de cuarta categoría. </a:t>
            </a:r>
            <a:endParaRPr b="0" lang="en-US" sz="3200" spc="-1" strike="noStrike">
              <a:solidFill>
                <a:srgbClr val="ffffff"/>
              </a:solidFill>
              <a:latin typeface="Times New Roman"/>
            </a:endParaRPr>
          </a:p>
        </p:txBody>
      </p:sp>
      <p:sp>
        <p:nvSpPr>
          <p:cNvPr id="13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332B-EFFF-418E-89E8-FE2A277BBAA7}" type="datetime">
              <a:rPr b="0" lang="es-ES"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3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3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BF4D-EAD2-4D80-97A2-96760A79FB1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7T13:03:27Z</dcterms:created>
  <dc:creator>DR. LEOPOLDO GUROVICH</dc:creator>
  <dc:description/>
  <dc:language>en-US</dc:language>
  <cp:lastModifiedBy>Your User Name</cp:lastModifiedBy>
  <dcterms:modified xsi:type="dcterms:W3CDTF">2010-08-11T15:07:38Z</dcterms:modified>
  <cp:revision>26</cp:revision>
  <dc:subject/>
  <dc:title>Convenio Colectivo de Trabajo SUTERH N° 589/10</dc:title>
</cp:coreProperties>
</file>